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E56-5AB8-41F4-9000-0EBF0E6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EDB-5EAB-4B4D-A34B-F9C00E5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E12C8-5557-4024-87A9-3A2ADF4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A8FD3-9E86-4B86-96CC-62285E46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4C4B6-824B-4617-A29D-BED97A59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101D-907B-407F-B603-F94DA7D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3757D-5A5C-49E2-BC86-8E69886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28012-ACE9-46F7-A30D-7F39387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974C6-CE0B-4318-BECA-006A39A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FC789-0E4A-44C2-91F0-E68A134D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07740-0A42-4053-B4DE-BB30E64B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B12FA-219D-4256-A201-FB3F2360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39C-FF70-4A0D-897D-E350DCB5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F9C89-22F7-4660-8D0E-03A11C00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E69AD-282C-4BAC-8929-EB3E2E3C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32FA5-47A0-4CB5-9BC7-4EDE343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B22FF-0C3A-4EB8-90AE-E8486E24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C5B03-7423-4D51-89BB-BA5BDA06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B750B-ECEB-48A7-B3E7-4509F7A8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05AA6-F3C4-4988-88B4-6EA695E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277FD-5E55-4D34-9B19-41DCF2C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BB316-9A13-4EA0-B297-CB65EF8A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AB6B9-AA68-46D1-9D25-515B9A7B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2FD-A37C-45AD-BF3F-8B2C0DC4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35CDD-7F74-4A7A-8D36-8F523484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E5610-21F3-49FE-B904-1FE088F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02B94-F2B4-41F6-808C-E28AF4F0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1D926-AD37-4B0C-A906-11ECBF7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DA3D6-2AAA-41DA-8508-0D9C958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D3F7-76C8-48DD-AB1C-521DE51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3CCF-7EF4-49ED-A5A6-92F1531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6D788-F685-41EA-8652-5EB6E72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7383-665C-4A5E-A6CA-DD74F19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9C848-CBB4-431F-B24D-9144A0B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2A7-9848-437C-B391-33F89671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59E92-2D9F-4A94-B88A-3CF76AA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480E-42BC-49D2-9B59-2E3251E3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0666E-85DA-4D88-9630-BCA3976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D5C89-4A90-4410-8104-A7B413CD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DB649-2C58-4C12-BA60-C937087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92ADF-3D4B-44A3-A5B2-768942F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7A438-6C32-4DA0-9209-85D25F2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AA79E-3FC5-4164-9801-E6093BD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31448-8482-43BC-A04D-3E545DF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43474-FE8E-4BEB-B8BC-AD30688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F5AC-F6BB-4B89-8B3D-C4D99E30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FF460-6327-40CE-93D4-043034F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EAB2B-2978-49E3-A3DB-A6558A1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BAB12-639B-44D7-BAD8-1D0E367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47A24-CA5D-4FB3-A205-4AD5B31E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F8167-32D1-425D-8800-4C3B36A3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0F9C-3371-48D0-AD78-30EA6D76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71EF-77F2-4BCF-B09B-AE37D40C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AFB-6D89-4025-9FF0-FD77327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227-92D2-4213-A629-4133950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385-4094-4BA2-A2CC-1153129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CBB-219A-48E6-861E-ACC6338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EA36-CC74-43C8-BABE-9B7A28D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628-C1E0-46D4-8FA6-6BF7941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A29-120A-4A90-99E9-272B1D6B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99C-2882-49DA-90FA-C605089C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E9E-C800-478B-A5A7-A169C4EB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2773-2B54-4452-A35D-580EC588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2430-B575-40BF-8419-53A70DF4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88CA-F343-47B5-A73E-DCBA9A7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203B-1301-4F54-93B6-524C76A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CB6A-9274-446C-B7B1-B687168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429-D64F-416A-A30F-9DF7B6D2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0A34-4110-4DA3-A660-C2FC30C7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F62C-37DF-4211-8CC7-BA2D659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B0B5-7323-472A-BE9D-E77D095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C7E0-86CA-4878-8E18-52F1238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F82D-E444-4B7D-8317-9EE6573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FEEC-244E-436F-93F5-971C58D0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20BC-20C8-4FF7-8A20-F285214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E57C-7FBD-4B00-B7C8-E8A86AD5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1CC1-E3F0-4A2F-81B4-952E8B9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36B6-2A09-495F-B542-4CE7BB7C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44A-A874-4CAC-9389-790CB71E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07B0-5981-4AF5-8BDF-6A2B57F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F18D-329A-4B01-B632-80AE406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9965-3795-47EE-B14F-3C14F56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63BC-B532-4E97-8100-31D0F8BA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256D-630D-441D-A761-C40E8D0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7215-6FE6-4DD3-AFC3-466AABC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CEED-0AD9-49AF-8FE5-705F1B4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1823-5C07-4A81-838F-2D11127A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93D3-198C-4E05-8018-48B21F7B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771E-E8FF-44D5-B8C3-7ABAE075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B84-5677-444C-AB0B-4AF97ABC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08E3-D8A2-4086-9421-7428E58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3F89-FCC8-4C62-A0E9-850C87C5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C3C04-2529-4ABB-B7A6-B353761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58B7D-7CB7-4909-A4CD-0C51E41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6D42-38E1-4421-BE82-A7265E3C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6BF8-3050-4EC3-87E8-7F51330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48545-C1F6-4461-9093-6309E99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A2AD-C3C3-48E3-B59B-CEECDF9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0E55-E231-4007-A999-EF9785CB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1FF7-A90E-4E67-B472-171EC04C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F47-B114-4659-AB2C-6987D6A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DB21-F151-49DF-B2E3-315066D5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393B3-2AF4-4178-B0FC-939289E8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FB18-CC1A-4D27-B4C6-74E63A0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3E20-1A5E-41CC-BE2B-D0B2540F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7A4E-658F-499F-BB0C-5FBF1DF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9A00-8530-4CDC-AA11-0966777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55A6-34CC-4D78-AF4D-9FA32D6E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9CEDD-8F83-40E8-ACB1-24B624D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8555-6450-49B3-8FF0-EDFE322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2C67-5EB3-44A2-B741-80AE811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24D-64C3-4AD7-9380-5809D1E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26BF-3191-47C0-B7F0-604EF6D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3FAE9-F8F1-4D55-BC0A-E1CFC78E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12AE-649E-431B-8259-B9918A57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EA07-5D19-4B8A-B418-512BAF4C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4C04-7C78-4F3B-BB09-E892568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6250-7DA1-47B2-AEA8-94A7714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BF02F-526F-4FA6-BD44-F83D43C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46CB-5304-46B7-BE9C-25237DCC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3946-9490-4F71-B714-32A0F0A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D3AA-9607-40E7-AFD6-E205610A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B0A-6BF2-4877-8454-04FDEAA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0D53-626B-4F27-AB17-C78BE17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72E2-8C43-45D7-AFAC-23DDC9F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6AEF-82E6-4A72-A36C-6624ED7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2D914-D31B-4660-A21B-4024658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3350-F7FF-4B3C-B63E-6A4F2A59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6B6E-7CAF-4204-AED5-3D5C280F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802B-0CA8-4531-AF02-A7C7661D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4204B-91BD-4AFC-872C-A18C0B8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A544-D536-437A-9F9F-B48E935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232E8-2730-4FB3-AA09-2642FF91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2DF-811F-41A1-B0DD-E934F16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94EFD-9677-4586-A98A-70B34E1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8113-B0D3-4208-88BE-F3F5469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7C5D-F6D5-4D25-B044-8C5C847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D5EF-DF30-4E3B-BC68-C4B51BD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BBC51-9965-4C06-9A85-0A429BB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A2D9-27B7-4627-90D4-709DB9BD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00B6-BBB0-4D5E-A40E-C408C14A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74CF9-7C66-431A-A2BD-FBCBD34F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7BF54-2D36-4816-9B97-5DE876D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DC747-F0B8-45BC-BDFA-EFBC5D4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5A03D-6B57-4C24-BF46-6FB5DD8348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A4A66-507C-4F5B-8EB9-D8186F06B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5C3A-A0BE-4093-9428-5B8ADEB1C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E2EDF-DABB-4EF2-A551-BB373951C0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56D2-258B-499D-B922-69C1C8EA67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C2257-7EC0-497A-B76B-AF7BD90B2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3101D-4BB1-4776-A2C8-26A48BE3C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1EE67-4340-4572-94CD-847CC30A8E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A2CFE-8467-4B23-91D9-3B8F913A21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FB222-C8C1-4C93-8719-19C9EB71C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4D068-FE62-4385-BE1B-E746038FEA1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9590F-6CA6-4945-B9BD-D30CEE91B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0DADC-0F13-473C-A911-792A7957BEC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A88CF-EACE-4F34-836D-6A1502CFB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C647B-3235-4123-BD98-E30B5D78459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8FC66-9A44-4471-BF72-867237269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87B3F-7322-42FE-8DF9-1438C7095BD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3CD3A-FF88-43AA-87FD-17C9B68F9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BA735-93F5-40B5-90E3-608B74D6F94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344D0-3415-44DD-92FD-E69113B04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DE45-9C81-46FA-A6F1-9C4B1091010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E49DB-D54C-43ED-A318-BAE88F4043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ABDC9-7D9C-4917-A347-FDE864634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2509B-B6ED-4193-8E84-CCFCF0580F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ERICA ON THE WORLD STAGE: 1899-19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8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apanese Laborers in Califor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 in Japanese migration to America’s Pacific Coa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ed as farm laborers, railroad workers &amp; serv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d dangerous work like Chinese before them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c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hool board in San Francisco ordered segregation of Chinese, Japanese &amp; Koreans to make more space for whi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ntlemen’s Agree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reat White Flee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in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Open Door Polic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US announces that all countries will respect certain Chinese rights and the ideal of fair compet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ll countries have equal access to any ports open to trade in China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xer Rebell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ultinational rescue force quells rebellio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6432480" y="3635280"/>
            <a:ext cx="1998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ection of 1900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: William McKinley, VP: Teddy Roosevel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: William Jennings Bry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ggest issue: imperialis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cKinley is victorio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sassinated in 1901 by a deranged anarchis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oosevelt becomes presiden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6647040" y="2771640"/>
            <a:ext cx="21589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eddy Roosevel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Tennis Cabinet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ak Softly and Carry a Big Stick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gotiate peacefully while threatening “big stick” or militar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ormous popular appe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rect-actioni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nstitution rides behi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the big stick rides befo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which is the rule of preced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the reign of Theodore)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6227640" y="3065400"/>
            <a:ext cx="2318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074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27080" y="444600"/>
            <a:ext cx="888984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nam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y-Pauncefote Trea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y Bunau-Varilla Trea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d to construction of Panama Ca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so led to downturn in U.S. relations w/ Latin Americ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218040" y="3668760"/>
            <a:ext cx="27432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’s Perversion of the Monroe Doctr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 was worried that weakness of nations like Dominican Republic &amp; Venezuela would lead to European interven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Roosevelt Corollar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“preventive intervention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US would intervene in conflicts between Europe &amp;  Latin American countries to prevent European interventio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3824280" y="4057560"/>
            <a:ext cx="2546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oosevelt on the World St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break of war between Russia &amp; Japan, 190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ussia wants a stake in China’s por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osevelt agreed to help sponsor peace negoti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osevelt receives Nobel Peace Prize for this agreement, and mediating in North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th Japan &amp; Russia felt robb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7:09:49Z</dcterms:created>
  <dc:creator>Emily Johnson</dc:creator>
  <dc:description/>
  <dc:language>en-US</dc:language>
  <cp:lastModifiedBy>emily.johnson</cp:lastModifiedBy>
  <dcterms:modified xsi:type="dcterms:W3CDTF">2013-02-04T15:13:44Z</dcterms:modified>
  <cp:revision>3</cp:revision>
  <dc:subject/>
  <dc:title>Chapter 28</dc:title>
</cp:coreProperties>
</file>